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3.jpeg" ContentType="image/jpeg"/>
  <Override PartName="/ppt/media/image23.gif" ContentType="image/gif"/>
  <Override PartName="/ppt/media/image20.gif" ContentType="image/gif"/>
  <Override PartName="/ppt/media/image18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11.gif" ContentType="image/gif"/>
  <Override PartName="/ppt/media/image24.jpeg" ContentType="image/jpeg"/>
  <Override PartName="/ppt/media/image12.gif" ContentType="image/gif"/>
  <Override PartName="/ppt/media/image30.jpeg" ContentType="image/jpeg"/>
  <Override PartName="/ppt/media/image7.gif" ContentType="image/gif"/>
  <Override PartName="/ppt/media/image32.gif" ContentType="image/gif"/>
  <Override PartName="/ppt/media/image35.png" ContentType="image/png"/>
  <Override PartName="/ppt/media/image8.gif" ContentType="image/gif"/>
  <Override PartName="/ppt/media/image13.gif" ContentType="image/gif"/>
  <Override PartName="/ppt/media/image34.jpeg" ContentType="image/jpeg"/>
  <Override PartName="/ppt/media/image15.gif" ContentType="image/gif"/>
  <Override PartName="/ppt/media/image5.gif" ContentType="image/gif"/>
  <Override PartName="/ppt/media/image28.gif" ContentType="image/gif"/>
  <Override PartName="/ppt/media/image3.gif" ContentType="image/gif"/>
  <Override PartName="/ppt/media/image26.gif" ContentType="image/gif"/>
  <Override PartName="/ppt/media/image9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10.jpeg" ContentType="image/jpeg"/>
  <Override PartName="/ppt/media/image14.gif" ContentType="image/gif"/>
  <Override PartName="/ppt/media/image16.gif" ContentType="image/gif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E80-80C4-4A5D-8576-870B91A9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345-D4A7-4175-A74F-C97850E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6F2-2C7D-48BD-9D66-0B57AD8C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41D-4A3F-4A8D-B36D-CEA3B5BD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7BB-7DAF-4392-9201-F55C3FBB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3FC-B8FB-4FFA-84C5-7A48B63C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34D-3D22-4EF2-9D5F-85F0A6B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EEE-96DF-4EC1-B819-F742D69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154-1BB2-41F4-B965-195D3CE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373-E7F3-4C67-8B34-DFE9043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20B-EE55-4FE6-A077-C2E517F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3A3-61A5-4DDB-B0E9-69F5A4C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G4%20-933MHz%20HD/%20WEBSITES/%20WWW%20Science%20Education/ref/presentation/powerpoint/ppt_files/solarsystem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/15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 Herr (sample fi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94F3-CA8C-49D0-B876-EA7F678AD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57200"/>
            <a:ext cx="160020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gif"/><Relationship Id="rId3" Type="http://schemas.openxmlformats.org/officeDocument/2006/relationships/image" Target="../media/image12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4.gif"/><Relationship Id="rId4" Type="http://schemas.openxmlformats.org/officeDocument/2006/relationships/image" Target="../media/image1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3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olarviews.com/cap/comet/halebop2.htm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siec.k12.in.us/~west/proj/space/sun.htm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image" Target="../media/image8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6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www.windows.ucar.edu/tour/link=/the_universe/supernova.html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4.gif"/><Relationship Id="rId3" Type="http://schemas.openxmlformats.org/officeDocument/2006/relationships/image" Target="../media/image1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Objects Make up Our Solar System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 plane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1 mo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teroid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te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e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048120" cy="259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5638680"/>
            <a:ext cx="6705720" cy="97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2286000"/>
            <a:ext cx="914400" cy="830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Summarize: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o we know about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inner rocky plane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rcury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enu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arth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52880" y="3276720"/>
            <a:ext cx="1467000" cy="1450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971800" y="44197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952880" y="205740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257800" y="5181480"/>
            <a:ext cx="990720" cy="90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Rotating Jupiter"/>
          <p:cNvPicPr/>
          <p:nvPr/>
        </p:nvPicPr>
        <p:blipFill>
          <a:blip r:embed="rId1"/>
          <a:stretch/>
        </p:blipFill>
        <p:spPr>
          <a:xfrm>
            <a:off x="7315200" y="5127480"/>
            <a:ext cx="1828800" cy="1730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00"/>
                </a:solidFill>
                <a:latin typeface="Arial Black"/>
              </a:rPr>
              <a:t>Jupiter</a:t>
            </a:r>
            <a:endParaRPr b="1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rgest and 5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plane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seous planet made of Hydrogen, Helium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a storm known as the “Red Spot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16 mo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ear = 11.9 earth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ns fast, 1 day equals 9.8 earth h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Rotating Jupiter"/>
          <p:cNvPicPr/>
          <p:nvPr/>
        </p:nvPicPr>
        <p:blipFill>
          <a:blip r:embed="rId2"/>
          <a:stretch/>
        </p:blipFill>
        <p:spPr>
          <a:xfrm>
            <a:off x="0" y="0"/>
            <a:ext cx="1752480" cy="165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114800" y="5638680"/>
            <a:ext cx="990720" cy="90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5400" spc="-1" strike="noStrike">
                <a:solidFill>
                  <a:srgbClr val="ff3300"/>
                </a:solidFill>
                <a:latin typeface="Arial Black"/>
              </a:rPr>
              <a:t>Saturn</a:t>
            </a:r>
            <a:endParaRPr b="1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ings made of rock/dust/ice partic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nd largest plane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as low density—it would float in w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tmosphere is made of Hydrogen, Hel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8 mo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 Yr = 29.5 earth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 day = 10 h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10280" y="22860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962520" y="556272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Arial Black"/>
              </a:rPr>
              <a:t>Uranu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Has r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Atmosphere composed of Hydrogen, Helium, and Metha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Methane gives the planet it’s blue - green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Rotates on its side with rings perpendicular to it’s ax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Black"/>
              </a:rPr>
              <a:t>1 Year = 84 earth yea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8880" y="4800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34120" y="533412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 Black"/>
              </a:rPr>
              <a:t>Neptune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thane gives Neptune it’s blue col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mosphere composed of methane, and ammonia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y contain liquid wa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s 8 mo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 Yr = 184 earth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724280" y="5410080"/>
            <a:ext cx="990720" cy="900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mmarize: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hink about and discuss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do we know about the Outer Jovian planet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rite down one fact about each plan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pi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ranu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ptu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hat is a Comet?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 mass of dust and rock mixed with frozen water, methane, and ammonia that produces a bright tail that points away from the sun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(like a big dirty snowball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84680"/>
            <a:ext cx="9144000" cy="3073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Asteroids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steroids are located in an area between the orbits of Mars and Jupiter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s area is called the asteroid bel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hy are they located there?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piter’s gravity may have kept a planet from forming in the area where the asteroid belt is loca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ticles range from small pieces of rock to 940 km!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Image: Illustration of extrasolar asteroid belt"/>
          <p:cNvPicPr/>
          <p:nvPr/>
        </p:nvPicPr>
        <p:blipFill>
          <a:blip r:embed="rId1"/>
          <a:stretch/>
        </p:blipFill>
        <p:spPr>
          <a:xfrm>
            <a:off x="4419720" y="1504800"/>
            <a:ext cx="4724280" cy="266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Location of main asteroid belt"/>
          <p:cNvPicPr/>
          <p:nvPr/>
        </p:nvPicPr>
        <p:blipFill>
          <a:blip r:embed="rId3"/>
          <a:stretch/>
        </p:blipFill>
        <p:spPr>
          <a:xfrm>
            <a:off x="5562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Image: Illustration of extrasolar asteroid belt"/>
          <p:cNvPicPr/>
          <p:nvPr/>
        </p:nvPicPr>
        <p:blipFill>
          <a:blip r:embed="rId1"/>
          <a:stretch/>
        </p:blipFill>
        <p:spPr>
          <a:xfrm>
            <a:off x="4191120" y="2941560"/>
            <a:ext cx="4952880" cy="3916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What are Asteroids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 Black"/>
              </a:rPr>
              <a:t>Asteroids are pieces of space rock that never formed a planet Located between Mars and Jupit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Location of main asteroid belt"/>
          <p:cNvPicPr/>
          <p:nvPr/>
        </p:nvPicPr>
        <p:blipFill>
          <a:blip r:embed="rId2"/>
          <a:stretch/>
        </p:blipFill>
        <p:spPr>
          <a:xfrm>
            <a:off x="380880" y="35812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33520" y="533520"/>
            <a:ext cx="121896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29000" y="49528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What's the difference betwee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Meteoroids, Meteors, and Meteorites?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mall pieces of rock that move through space are meteoroi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 meteoroid that burns up in the earth’s atmosphere is called a mete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 meteor that strikes the earth it is called a meteori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205740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129528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 Black"/>
              </a:rPr>
              <a:t>How do planets revolve around the Sun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9" name="" descr="Ellipse construction"/>
          <p:cNvPicPr/>
          <p:nvPr/>
        </p:nvPicPr>
        <p:blipFill>
          <a:blip r:embed="rId1"/>
          <a:stretch/>
        </p:blipFill>
        <p:spPr>
          <a:xfrm>
            <a:off x="1285920" y="3386160"/>
            <a:ext cx="6334200" cy="316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planets orbit around the sun in an elliptical patter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Su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362320" y="39625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010360" y="3429000"/>
            <a:ext cx="113364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w do we know the solar system is 5 Billion Years Old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teroids, Meteorites and Moon Rocks have been around since the beginning of the Solar System because they never formed a plan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ir age tells us that the solar system is at least 5 billion years old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038480" y="4952880"/>
            <a:ext cx="129564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is the Solar Nebular Model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odel that describes the sun and solar system forming together out of a cloud of gas and dust (nebula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48720" y="380880"/>
            <a:ext cx="1295280" cy="1176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Orion Nebul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590920"/>
            <a:ext cx="4100760" cy="426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7848720" y="1905120"/>
            <a:ext cx="88092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solarsysform.gif (1353338 bytes)"/>
          <p:cNvPicPr/>
          <p:nvPr/>
        </p:nvPicPr>
        <p:blipFill>
          <a:blip r:embed="rId5"/>
          <a:stretch/>
        </p:blipFill>
        <p:spPr>
          <a:xfrm>
            <a:off x="91440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- Particles Clump Together to Form larger      and larger Particles, in this case, planetesimal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543800" cy="4297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Planets form by </a:t>
            </a: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Arial Black"/>
              </a:rPr>
              <a:t>Accret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hat is Accretion?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retion occurs when small particles collide and stick together forming larger objects (planet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accretion.jpg (21367 bytes)"/>
          <p:cNvPicPr/>
          <p:nvPr/>
        </p:nvPicPr>
        <p:blipFill>
          <a:blip r:embed="rId1"/>
          <a:stretch/>
        </p:blipFill>
        <p:spPr>
          <a:xfrm>
            <a:off x="1752480" y="2874960"/>
            <a:ext cx="5791320" cy="3983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29528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32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971800" y="396252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838080"/>
            <a:ext cx="41148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A  cloud of Ice gas and dust called a Nebula begins to collapse and s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46479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. As it spins faster, a flat disk shape begins to form with a hot center.  Pieces of dust and rock start clumping together to form the pla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962520"/>
            <a:ext cx="48769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. Eventually our sun forms and the planetesimals (tiny planets) collide and grow larger as their gravity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486400"/>
            <a:ext cx="41148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. Our Sun blows away (Solar Wind) any remaining gas leaving only the plan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71500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152280"/>
            <a:ext cx="59436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How did our solar system Fo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4 st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ummarize: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nk About and Discuss-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asteroids and meteorites and comet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do we know the solar system is 5 billion years old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did the solar system for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ner </a:t>
            </a:r>
            <a:r>
              <a:rPr b="1" i="1" lang="en-US" sz="3600" spc="-1" strike="noStrike">
                <a:solidFill>
                  <a:srgbClr val="ffff66"/>
                </a:solidFill>
                <a:latin typeface="Times New Roman"/>
              </a:rPr>
              <a:t>(Terrestrial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Planets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s. Outer </a:t>
            </a:r>
            <a:r>
              <a:rPr b="1" i="1" lang="en-US" sz="3600" spc="-1" strike="noStrike">
                <a:solidFill>
                  <a:srgbClr val="ffff66"/>
                </a:solidFill>
                <a:latin typeface="Times New Roman"/>
              </a:rPr>
              <a:t>(Gassy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Planet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Inn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Terrestrial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lanets ar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rcury, Venus, Earth, and 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st to 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maller, Rocky, and therefore mo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nse, and they orbit the sun f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Oute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Gaseous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planets ar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upiter, Saturn, Uranus, and Nept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rther from 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de of gas, and therefore less dense, and they are l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139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990880" cy="173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at is the difference between the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ner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(terrestrial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and Outer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(Jovian)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planets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ner Rocky planets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are smaller, rocky and more dense, and orbit fas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uter Jovian Planets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They are larger, gaseous, less dens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 have slow orbi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4038480" cy="139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57800" y="4776840"/>
            <a:ext cx="3429000" cy="2081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762120" cy="69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What do we know about MERCURY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ke our moon, it has no atmosphere and therefore has many cra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allest plan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urface temps can reach 45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 during the day and  -17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 at night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extreme temperature variatio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772400" y="2514600"/>
            <a:ext cx="114300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What do we Know about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 Black"/>
              </a:rPr>
              <a:t>VENUS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milar in size to eart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nse carbon 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Black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) atmosphere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ins sulfuric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s a day longer than it's ye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urface temps can reach 4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s a severe greenhouse eff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43800" y="2514600"/>
            <a:ext cx="121932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What do we know about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EARTH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 AU from the sun 1AU = 150million </a:t>
            </a: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(1.5 X 10</a:t>
            </a:r>
            <a:r>
              <a:rPr b="0" lang="en-US" sz="2800" spc="-1" strike="noStrike" baseline="30000">
                <a:solidFill>
                  <a:srgbClr val="ffff99"/>
                </a:solidFill>
                <a:latin typeface="Arial Black"/>
              </a:rPr>
              <a:t>8 </a:t>
            </a:r>
            <a:r>
              <a:rPr b="0" lang="en-US" sz="2800" spc="-1" strike="noStrike">
                <a:solidFill>
                  <a:srgbClr val="ffff99"/>
                </a:solidFill>
                <a:latin typeface="Arial Black"/>
              </a:rPr>
              <a:t>KM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rich atmosphere due to photosynthetic plants &amp; alga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orites have been radiometrically dated at 4.6 billion years old, so earth is at least 4.6 billion years ol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91520" y="5715000"/>
            <a:ext cx="1228680" cy="93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924680" y="0"/>
            <a:ext cx="990720" cy="90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962520" y="5334120"/>
            <a:ext cx="99036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What do we know about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MARS?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Red in color because of the iron oxide (rust) in the weathered rocks on it’s surface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2 ice caps made of water and carbon dioxide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( CO</a:t>
            </a:r>
            <a:r>
              <a:rPr b="1" lang="en-US" sz="2100" spc="-1" strike="noStrike" baseline="-25000">
                <a:solidFill>
                  <a:srgbClr val="ffff99"/>
                </a:solidFill>
                <a:latin typeface="Arial"/>
              </a:rPr>
              <a:t>2 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Northern ice cap is made up of wat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Shows signs of running wat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Has the largest volcano in the solar system called Olympus Mon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s a large valley called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Valles Marineris</a:t>
            </a: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n atmosphere composed mostly of carbon dioxide ( 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irregular moons: Phobos and Deim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00800" y="5638680"/>
            <a:ext cx="990720" cy="9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153280" y="304920"/>
            <a:ext cx="990720" cy="90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Sydnie"/>
              </a:rPr>
              <a:t>Inner Planets Review: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has a severe greenhouse effect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may have once had running water on it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is approximately 1 AU from the Su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is red due to iron oxide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rains sulfuric acid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Sydn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dnie"/>
              </a:rPr>
              <a:t>Which planet has extreme temperatures because it has no atmosphere and is coved with crater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20:54:46Z</dcterms:created>
  <dc:creator>Norman Herr</dc:creator>
  <dc:description/>
  <dc:language>en-US</dc:language>
  <cp:lastModifiedBy>jfuller</cp:lastModifiedBy>
  <dcterms:modified xsi:type="dcterms:W3CDTF">2008-10-27T17:25:18Z</dcterms:modified>
  <cp:revision>130</cp:revision>
  <dc:subject/>
  <dc:title>SOLAR SYSTEM</dc:title>
</cp:coreProperties>
</file>